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7E79-8E11-4D4B-A57C-591E095C20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39E9-D42C-4A5F-B04B-C70527F87E1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382-F91C-4550-AAF1-27A22716EFA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C801-C561-472D-8744-64431C4FFB1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9835-D0C5-4F1B-B2A5-062DECA5F33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494C-5879-4EF9-BDED-D4D4592D00B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732-F820-46C7-9386-14891D94CA8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DCE-A6BF-4BBA-8694-27A01977D2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5526-99FD-4C65-AB55-A122BFF7E06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E19-E34B-4030-8C9A-476CEA3E7BA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5B44-6163-4F79-B760-91C1E97568F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784-17F5-476E-993C-5424C470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39F-385D-44BF-908D-792FD992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9BF6-E280-429C-A1C2-DE569911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699-3C58-4377-AA10-74568932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AA6-51CD-4843-B830-EEB4304E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4959-876B-4264-8190-CF49E6B5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91DB-68D1-4C0E-BBF7-98E53EEC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A685-BA3C-444F-8243-96C9AF19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949-FC4A-477C-9B29-50F071A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7E5-520E-497D-86C5-CDB36171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111-4CF1-41AD-B17A-EF45CA00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10A-AA48-4586-9DBB-31384FA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ED62-FADE-41CB-A40C-5265E205F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800"/>
            </a:br>
            <a:r>
              <a:rPr b="1" i="1" lang="ru-RU" sz="4800" spc="-1" strike="noStrike">
                <a:solidFill>
                  <a:srgbClr val="002060"/>
                </a:solidFill>
                <a:latin typeface="Monotype Corsiva"/>
              </a:rPr>
              <a:t>«Самооценка детей дошкольного возраста и её компоненты»</a:t>
            </a:r>
            <a:br>
              <a:rPr sz="4800"/>
            </a:br>
            <a:br>
              <a:rPr sz="48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62626"/>
                </a:solidFill>
                <a:latin typeface="Times New Roman"/>
              </a:rPr>
              <a:t>                                                                       </a:t>
            </a: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Крыгина Анна Александровна</a:t>
            </a:r>
            <a:br>
              <a:rPr sz="2000"/>
            </a:br>
            <a:r>
              <a:rPr b="1" i="1" lang="ru-RU" sz="2000" spc="-1" strike="noStrike">
                <a:solidFill>
                  <a:srgbClr val="262626"/>
                </a:solidFill>
                <a:latin typeface="Times New Roman"/>
              </a:rPr>
              <a:t>                          Старший воспитатель МДОАУ «Детский сад № 2»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Users\User\Desktop\през\img0.jpg"/>
          <p:cNvPicPr/>
          <p:nvPr/>
        </p:nvPicPr>
        <p:blipFill>
          <a:blip r:embed="rId1"/>
          <a:stretch/>
        </p:blipFill>
        <p:spPr>
          <a:xfrm>
            <a:off x="3041640" y="2706840"/>
            <a:ext cx="3322800" cy="2193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1476360" y="493560"/>
            <a:ext cx="7056360" cy="936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1280" y="66996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вышен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55640" y="2133720"/>
            <a:ext cx="8209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 ставит перед собой слишком высокие цели, он неминуемо сталкивается с неуспеха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            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неудача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370160" y="376200"/>
            <a:ext cx="7056360" cy="9684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835280" y="5684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Занижен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042920" y="2205000"/>
            <a:ext cx="78501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 ставит перед собой слишком легкие для   себя,   только    достижимые  цели  и  т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амым мешает собственному развит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1547640" y="100080"/>
            <a:ext cx="6910560" cy="1251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33520" y="187200"/>
            <a:ext cx="70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адекват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rcRect l="55785" t="19150" r="0" b="0"/>
          <a:stretch/>
        </p:blipFill>
        <p:spPr>
          <a:xfrm>
            <a:off x="6372360" y="2629080"/>
            <a:ext cx="2771640" cy="4235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370720" cy="5383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1673280" y="96840"/>
            <a:ext cx="6551640" cy="1224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979640" y="9684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завышен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rcRect l="59049" t="17342" r="0" b="0"/>
          <a:stretch/>
        </p:blipFill>
        <p:spPr>
          <a:xfrm>
            <a:off x="6372360" y="3068640"/>
            <a:ext cx="2774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6"/>
          <p:cNvSpPr/>
          <p:nvPr/>
        </p:nvSpPr>
        <p:spPr>
          <a:xfrm>
            <a:off x="755640" y="155088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не склонны анализировать результаты своих действий и поступк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большинстве случаев они пытаются решать любые, в том числе и весьма сложные задачи быстро, не разобрав до конц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аще всего они не осознают своих неудач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стремятся всегда быть на виду, афишируют свои знания и умения, стараются выделиться на фоне других ребят, обратить на них вним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1258920" y="171360"/>
            <a:ext cx="6913440" cy="9540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185920" y="10944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Особенности детей с заниженной самооценко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1"/>
          <a:srcRect l="59999" t="18891" r="2414" b="12844"/>
          <a:stretch/>
        </p:blipFill>
        <p:spPr>
          <a:xfrm>
            <a:off x="6265800" y="2894040"/>
            <a:ext cx="2967120" cy="40449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547560" y="1211400"/>
            <a:ext cx="838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 поведении чаще всего не решительны, малообщительны, недоверчивы к другим людям, молчаливы, скованны в своих движения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очень чувствительны, готовы расплакаться в любой момент, не стремятся к сотрудничеству и не способны постоять за себ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и заранее отказываются от решения задач,  которые кажутся им сложными, но при эмоциональной поддержке взрослого легко справляются  с ни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н долго не приступает к выполнению задания, опасаясь, что не понял, что надо делать и выполнит все неправи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684360" y="189000"/>
            <a:ext cx="8177040" cy="10396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684360" y="15228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витие самооценки детей в зависимости от особенностей воспит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Объект 3"/>
          <p:cNvGraphicFramePr/>
          <p:nvPr/>
        </p:nvGraphicFramePr>
        <p:xfrm>
          <a:off x="684360" y="1228680"/>
          <a:ext cx="8280360" cy="57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28680"/>
                    <a:ext cx="8280360" cy="57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1182600" y="152280"/>
            <a:ext cx="7272360" cy="10083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830240" y="8244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Стратегии позитивного оценивая  реб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68360" y="1341360"/>
            <a:ext cx="8454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оложительная оценка ребенка как личности, демонстрация доброжелательного к нему отношения («Я знаю, ты очень старался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указания на ошибки, допущенные при выполнении задания, или нарушения норм поведения («Но сейчас ты поступил неправильно, ты толкнул Машу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анализ причин допущенных ошибок и плохого поведения («Тебе показалось, что Маша толкнула тебя специально, но она это сделала не нарочно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обсуждение вместе с ребенком способов исправления ошибок и допустимых в данной ситуации форм повед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выражение уверенности в том, что у него все получится («он не будет больше толкать девочек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340000" y="525600"/>
            <a:ext cx="4824360" cy="7221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3024360" y="5256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Первы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Блок-схема: решение 6"/>
          <p:cNvSpPr/>
          <p:nvPr/>
        </p:nvSpPr>
        <p:spPr>
          <a:xfrm>
            <a:off x="971640" y="1628640"/>
            <a:ext cx="7777080" cy="38880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232000" y="309564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Говорить нужно о ситуации, а не о личност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2195640" y="343080"/>
            <a:ext cx="4968720" cy="7603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3059280" y="431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Второ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Блок-схема: решение 5"/>
          <p:cNvSpPr/>
          <p:nvPr/>
        </p:nvSpPr>
        <p:spPr>
          <a:xfrm>
            <a:off x="539640" y="1413000"/>
            <a:ext cx="8604360" cy="46800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2197080" y="263700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«Для того, чтобы выразить свои чувства и не унизить достоинство ребенка, используйте Я-сообщения. Они не унизят достоинство ребен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1979640" y="473040"/>
            <a:ext cx="5616720" cy="7635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3132000" y="5619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Третий принци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Блок-схема: решение 4"/>
          <p:cNvSpPr/>
          <p:nvPr/>
        </p:nvSpPr>
        <p:spPr>
          <a:xfrm>
            <a:off x="1224000" y="1628640"/>
            <a:ext cx="7488360" cy="4176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519280" y="3240000"/>
            <a:ext cx="48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валить следует поступки, а не характер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353440" cy="64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                    </a:t>
            </a:r>
            <a:r>
              <a:rPr b="1" i="1" lang="ru-RU" sz="4800" spc="-1" strike="noStrike">
                <a:solidFill>
                  <a:srgbClr val="000066"/>
                </a:solidFill>
                <a:latin typeface="Times New Roman"/>
              </a:rPr>
              <a:t>«Большая ошибка – мечтать о себе больше, чем следует, и ценить себя ниже, чем стоишь…»</a:t>
            </a:r>
            <a:br>
              <a:rPr sz="1200"/>
            </a:b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                                     </a:t>
            </a: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Иоганн Вольфганг Гёте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90480" y="333360"/>
            <a:ext cx="82342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«Если ты потерял деньги – ты ничего не потерял; если ты потерял честь – получи славу, и ты найдешь честь; если ты потерял уверенность в себе – ты потерял вс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3700440" y="5854680"/>
            <a:ext cx="5432400" cy="957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1258920" y="2492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Monotype Corsiva"/>
              </a:rPr>
              <a:t>Спасибо за 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30000" y="476280"/>
            <a:ext cx="8389800" cy="19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</a:rPr>
              <a:t>Что такое самооценка?</a:t>
            </a:r>
            <a:endParaRPr b="0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Users\User\Desktop\през\img2.jpg"/>
          <p:cNvPicPr/>
          <p:nvPr/>
        </p:nvPicPr>
        <p:blipFill>
          <a:blip r:embed="rId1"/>
          <a:stretch/>
        </p:blipFill>
        <p:spPr>
          <a:xfrm>
            <a:off x="2266920" y="2773440"/>
            <a:ext cx="4840200" cy="32734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Скругленный прямоугольник 1"/>
          <p:cNvSpPr/>
          <p:nvPr/>
        </p:nvSpPr>
        <p:spPr>
          <a:xfrm>
            <a:off x="611280" y="260280"/>
            <a:ext cx="8366040" cy="187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55640" y="35712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Самооценка – это оценка личностью самой себя, своих возможностей, качеств 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            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Vijaya"/>
              </a:rPr>
              <a:t>места среди других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Скругленный прямоугольник 4"/>
          <p:cNvSpPr/>
          <p:nvPr/>
        </p:nvSpPr>
        <p:spPr>
          <a:xfrm>
            <a:off x="755640" y="2770200"/>
            <a:ext cx="295272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000080" y="3011400"/>
            <a:ext cx="28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Критич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Скругленный прямоугольник 12"/>
          <p:cNvSpPr/>
          <p:nvPr/>
        </p:nvSpPr>
        <p:spPr>
          <a:xfrm>
            <a:off x="5651640" y="2668680"/>
            <a:ext cx="33559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5398920" y="289548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Взаимоотношения с окружающ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Выгнутая вправо стрелка 5127"/>
          <p:cNvSpPr/>
          <p:nvPr/>
        </p:nvSpPr>
        <p:spPr>
          <a:xfrm>
            <a:off x="3708360" y="2133720"/>
            <a:ext cx="863640" cy="1584360"/>
          </a:xfrm>
          <a:custGeom>
            <a:avLst/>
            <a:gdLst>
              <a:gd name="textAreaLeft" fmla="*/ 115560 w 863640"/>
              <a:gd name="textAreaRight" fmla="*/ 748080 w 863640"/>
              <a:gd name="textAreaTop" fmla="*/ 315000 h 1584360"/>
              <a:gd name="textAreaBottom" fmla="*/ 11613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93" stAng="-5400000" swAng="5400000"/>
                <a:lnTo>
                  <a:pt x="21600" y="11536"/>
                </a:lnTo>
                <a:arcTo wR="21600" hR="8593" stAng="0" swAng="3420827"/>
                <a:lnTo>
                  <a:pt x="5400" y="21327"/>
                </a:lnTo>
                <a:lnTo>
                  <a:pt x="0" y="18657"/>
                </a:lnTo>
                <a:lnTo>
                  <a:pt x="5400" y="15440"/>
                </a:lnTo>
                <a:lnTo>
                  <a:pt x="5400" y="16912"/>
                </a:lnTo>
                <a:arcTo wR="21600" hR="8593" stAng="3420827" swAng="-3183497"/>
                <a:lnTo>
                  <a:pt x="21281" y="10064"/>
                </a:lnTo>
                <a:arcTo wR="21600" hR="8593" stAng="-237330" swAng="-5162670"/>
                <a:close/>
              </a:path>
              <a:path fill="darkenLess" w="21600" h="21600">
                <a:moveTo>
                  <a:pt x="0" y="0"/>
                </a:moveTo>
                <a:arcTo wR="21600" hR="8593" stAng="-5400000" swAng="5400000"/>
                <a:lnTo>
                  <a:pt x="21600" y="11536"/>
                </a:lnTo>
                <a:arcTo wR="21600" hR="8593" stAng="0" swAng="-237330"/>
                <a:lnTo>
                  <a:pt x="21281" y="10064"/>
                </a:lnTo>
                <a:arcTo wR="21600" hR="8593" stAng="-237330" swAng="-5162670"/>
                <a:close/>
              </a:path>
            </a:pathLst>
          </a:custGeom>
          <a:gradFill rotWithShape="0">
            <a:gsLst>
              <a:gs pos="0">
                <a:srgbClr val="9595ff"/>
              </a:gs>
              <a:gs pos="100000">
                <a:srgbClr val="e1e1ff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Выгнутая влево стрелка 5128"/>
          <p:cNvSpPr/>
          <p:nvPr/>
        </p:nvSpPr>
        <p:spPr>
          <a:xfrm>
            <a:off x="4794120" y="2133720"/>
            <a:ext cx="857520" cy="1584360"/>
          </a:xfrm>
          <a:custGeom>
            <a:avLst/>
            <a:gdLst>
              <a:gd name="textAreaLeft" fmla="*/ 114840 w 857520"/>
              <a:gd name="textAreaRight" fmla="*/ 742680 w 857520"/>
              <a:gd name="textAreaTop" fmla="*/ 315720 h 1584360"/>
              <a:gd name="textAreaBottom" fmla="*/ 11617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09" stAng="-5400000" swAng="-5400000"/>
                <a:lnTo>
                  <a:pt x="0" y="11531"/>
                </a:lnTo>
                <a:arcTo wR="21600" hR="8609" stAng="10800000" swAng="-3423747"/>
                <a:lnTo>
                  <a:pt x="16200" y="21327"/>
                </a:lnTo>
                <a:lnTo>
                  <a:pt x="21600" y="18678"/>
                </a:lnTo>
                <a:lnTo>
                  <a:pt x="16200" y="15483"/>
                </a:lnTo>
                <a:lnTo>
                  <a:pt x="16200" y="16944"/>
                </a:lnTo>
                <a:arcTo wR="21600" hR="8609" stAng="7376253" swAng="3188168"/>
                <a:lnTo>
                  <a:pt x="313" y="10069"/>
                </a:lnTo>
                <a:arcTo wR="21600" hR="8609" stAng="-10564421" swAng="5164421"/>
                <a:close/>
              </a:path>
              <a:path fill="darkenLess" w="21600" h="21600">
                <a:moveTo>
                  <a:pt x="21600" y="0"/>
                </a:moveTo>
                <a:arcTo wR="21600" hR="8609" stAng="-5400000" swAng="-5400000"/>
                <a:lnTo>
                  <a:pt x="0" y="8609"/>
                </a:lnTo>
                <a:arcTo wR="21600" hR="8609" stAng="10800000" swAng="-235579"/>
                <a:lnTo>
                  <a:pt x="313" y="10069"/>
                </a:lnTo>
                <a:arcTo wR="21600" hR="8609" stAng="-10564421" swAng="516442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Выгнутая вправо стрелка 5129"/>
          <p:cNvSpPr/>
          <p:nvPr/>
        </p:nvSpPr>
        <p:spPr>
          <a:xfrm>
            <a:off x="3708360" y="2098800"/>
            <a:ext cx="1079640" cy="324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08840 h 3240000"/>
              <a:gd name="textAreaBottom" fmla="*/ 239652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1" stAng="-5400000" swAng="5400000"/>
                <a:lnTo>
                  <a:pt x="21600" y="11251"/>
                </a:lnTo>
                <a:arcTo wR="21600" hR="9451" stAng="0" swAng="3567213"/>
                <a:lnTo>
                  <a:pt x="5400" y="21300"/>
                </a:lnTo>
                <a:lnTo>
                  <a:pt x="0" y="19801"/>
                </a:lnTo>
                <a:lnTo>
                  <a:pt x="5400" y="17702"/>
                </a:lnTo>
                <a:lnTo>
                  <a:pt x="5400" y="18601"/>
                </a:lnTo>
                <a:arcTo wR="21600" hR="9451" stAng="3567213" swAng="-3423403"/>
                <a:lnTo>
                  <a:pt x="21502" y="10351"/>
                </a:lnTo>
                <a:arcTo wR="21600" hR="9451" stAng="-143809" swAng="-5256191"/>
                <a:close/>
              </a:path>
              <a:path fill="darkenLess" w="21600" h="21600">
                <a:moveTo>
                  <a:pt x="0" y="0"/>
                </a:moveTo>
                <a:arcTo wR="21600" hR="9451" stAng="-5400000" swAng="5400000"/>
                <a:lnTo>
                  <a:pt x="21600" y="11251"/>
                </a:lnTo>
                <a:arcTo wR="21600" hR="9451" stAng="0" swAng="-143809"/>
                <a:lnTo>
                  <a:pt x="21502" y="10351"/>
                </a:lnTo>
                <a:arcTo wR="21600" hR="9451" stAng="-143809" swAng="-525619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Выгнутая влево стрелка 5130"/>
          <p:cNvSpPr/>
          <p:nvPr/>
        </p:nvSpPr>
        <p:spPr>
          <a:xfrm>
            <a:off x="4521240" y="2098800"/>
            <a:ext cx="1079640" cy="324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708840 h 3240000"/>
              <a:gd name="textAreaBottom" fmla="*/ 239652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51" stAng="-5400000" swAng="-5400000"/>
                <a:lnTo>
                  <a:pt x="0" y="11251"/>
                </a:lnTo>
                <a:arcTo wR="21600" hR="9451" stAng="10800000" swAng="-3567213"/>
                <a:lnTo>
                  <a:pt x="16200" y="21300"/>
                </a:lnTo>
                <a:lnTo>
                  <a:pt x="21600" y="19801"/>
                </a:lnTo>
                <a:lnTo>
                  <a:pt x="16200" y="17702"/>
                </a:lnTo>
                <a:lnTo>
                  <a:pt x="16200" y="18601"/>
                </a:lnTo>
                <a:arcTo wR="21600" hR="9451" stAng="7232787" swAng="3423403"/>
                <a:lnTo>
                  <a:pt x="98" y="10351"/>
                </a:lnTo>
                <a:arcTo wR="21600" hR="9451" stAng="-10656191" swAng="5256191"/>
                <a:close/>
              </a:path>
              <a:path fill="darkenLess" w="21600" h="21600">
                <a:moveTo>
                  <a:pt x="21600" y="0"/>
                </a:moveTo>
                <a:arcTo wR="21600" hR="9451" stAng="-5400000" swAng="-5400000"/>
                <a:lnTo>
                  <a:pt x="0" y="9451"/>
                </a:lnTo>
                <a:arcTo wR="21600" hR="9451" stAng="10800000" swAng="-143809"/>
                <a:lnTo>
                  <a:pt x="98" y="10351"/>
                </a:lnTo>
                <a:arcTo wR="21600" hR="9451" stAng="-10656191" swAng="5256191"/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"/>
          <p:cNvPicPr/>
          <p:nvPr/>
        </p:nvPicPr>
        <p:blipFill>
          <a:blip r:embed="rId1"/>
          <a:stretch/>
        </p:blipFill>
        <p:spPr>
          <a:xfrm>
            <a:off x="730080" y="4478400"/>
            <a:ext cx="3048120" cy="1182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6"/>
          <p:cNvSpPr/>
          <p:nvPr/>
        </p:nvSpPr>
        <p:spPr>
          <a:xfrm>
            <a:off x="660240" y="4602240"/>
            <a:ext cx="320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Требовательность к се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5597640" y="4602240"/>
            <a:ext cx="3492360" cy="1182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83240" y="4551480"/>
            <a:ext cx="35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Отношение к успехам и не удач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731880" y="260280"/>
            <a:ext cx="8209080" cy="12970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835280" y="61452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Условия развития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ятиугольник 4"/>
          <p:cNvSpPr/>
          <p:nvPr/>
        </p:nvSpPr>
        <p:spPr>
          <a:xfrm rot="5400000">
            <a:off x="422640" y="2203920"/>
            <a:ext cx="4608720" cy="388944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85" y="0"/>
                </a:lnTo>
                <a:lnTo>
                  <a:pt x="21600" y="10800"/>
                </a:lnTo>
                <a:lnTo>
                  <a:pt x="124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08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ятиугольник 6"/>
          <p:cNvSpPr/>
          <p:nvPr/>
        </p:nvSpPr>
        <p:spPr>
          <a:xfrm rot="5400000">
            <a:off x="4787280" y="2276280"/>
            <a:ext cx="4608720" cy="3745080"/>
          </a:xfrm>
          <a:custGeom>
            <a:avLst/>
            <a:gdLst>
              <a:gd name="textAreaLeft" fmla="*/ 0 w 4608720"/>
              <a:gd name="textAreaRight" fmla="*/ 4609080 w 4608720"/>
              <a:gd name="textAreaTop" fmla="*/ 0 h 3745080"/>
              <a:gd name="textAreaBottom" fmla="*/ 374544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824" y="0"/>
                </a:lnTo>
                <a:lnTo>
                  <a:pt x="21600" y="10800"/>
                </a:lnTo>
                <a:lnTo>
                  <a:pt x="128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08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879480" y="2205000"/>
            <a:ext cx="35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щение с окружающи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11280" y="3384720"/>
            <a:ext cx="362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ваиваются формы, виды и критерии оце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291280" y="2227320"/>
            <a:ext cx="380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бственная деятельность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4859280" y="3384720"/>
            <a:ext cx="42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пробация, наполнение личностными смысл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730080" y="171360"/>
            <a:ext cx="8256600" cy="11019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1427040" y="43020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Этапы развития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74720" y="1351080"/>
            <a:ext cx="2448000" cy="102240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774720" y="2352600"/>
            <a:ext cx="2473200" cy="43768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3473280" y="1363680"/>
            <a:ext cx="2592720" cy="10778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3486240" y="2340000"/>
            <a:ext cx="2579760" cy="440208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701640" y="127332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Младш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774720" y="2463840"/>
            <a:ext cx="223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оло 3,5 лет у детей уже можно наблюдать массовые реакции на успех и неудачу, очевидным образом связанные с самооценк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3479760" y="1273320"/>
            <a:ext cx="2606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66"/>
                </a:solidFill>
                <a:latin typeface="Times New Roman"/>
              </a:rPr>
              <a:t>Средн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1"/>
          <p:cNvSpPr/>
          <p:nvPr/>
        </p:nvSpPr>
        <p:spPr>
          <a:xfrm>
            <a:off x="3241800" y="2432160"/>
            <a:ext cx="2847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 многих детей складывается умение и потребность правильно оценивать себя, свои успехи, неудачи, личностные  качества, причем не только в игровой, но и в других видах деятельности: учении, труде и общ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2"/>
          <p:cNvSpPr/>
          <p:nvPr/>
        </p:nvSpPr>
        <p:spPr>
          <a:xfrm>
            <a:off x="6300720" y="1392120"/>
            <a:ext cx="2685960" cy="9716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6346800" y="1314360"/>
            <a:ext cx="259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Times New Roman"/>
              </a:rPr>
              <a:t>Старший дошкольный возрас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6300720" y="2363760"/>
            <a:ext cx="2685960" cy="43783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6300720" y="2352600"/>
            <a:ext cx="2843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 придают большое значение оценкам, даваемым им взрослыми людьм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бенок не ждет такой оценки, а активно сам добивается ее, стремится  получить похвалу, очень старается ее заслуж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1042920" y="333360"/>
            <a:ext cx="7274160" cy="83196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138400" y="4572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омпоненты самооцен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826920" y="1773360"/>
            <a:ext cx="79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огнитивный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(представление о себе, знания о себе, сравнения с другими и анализ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826920" y="3281400"/>
            <a:ext cx="79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Эмоциональный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отношение к себе, которое формируется из отношений взрослых к ребенку, удовлетворение его положением в семье и среди сверстников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971640" y="260280"/>
            <a:ext cx="7561080" cy="9367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547640" y="4176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Виды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самооцен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85880" y="170028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Адекватна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нормальная), соответствует реальному представлению о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785880" y="299736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Завышенная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(из-за надуманной переоценке себ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785880" y="4292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3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Заниженная 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(из-за кажущейся переоценки себя и своих возможностей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547640" y="372960"/>
            <a:ext cx="6553440" cy="79704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987560" y="4795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Адекватная самооцен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835200" y="1628640"/>
            <a:ext cx="792144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соответствует реальной успешности человека в какой-либо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ысокий уровень самоуважения, общей самооцен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just">
              <a:lnSpc>
                <a:spcPct val="150000"/>
              </a:lnSpc>
              <a:buClr>
                <a:srgbClr val="00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человек, обладающий чувством собственного достоинства, уверенный в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4T06:35:35Z</dcterms:created>
  <dc:creator>Admin</dc:creator>
  <dc:description/>
  <dc:language>en-US</dc:language>
  <cp:lastModifiedBy>User</cp:lastModifiedBy>
  <dcterms:modified xsi:type="dcterms:W3CDTF">2019-02-27T05:02:47Z</dcterms:modified>
  <cp:revision>99</cp:revision>
  <dc:subject/>
  <dc:title>Your Title Here…</dc:title>
</cp:coreProperties>
</file>